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wmf" ContentType="image/x-wmf"/>
  <Override PartName="/ppt/media/image1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CC20D-8B52-4AC5-ABD7-C72071675F82}" type="slidenum">
              <a:rPr b="0" lang="es-UY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E2E12-A867-4CCA-BB18-9CB8B76EE789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86DC-0ED0-4719-AA2F-13888D6131F4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7246-C879-47CC-B6FA-9ED21247FB47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4555-4BD4-4659-884C-0277BB77C3B0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E4B97-8C6E-4609-92FD-696DF1C207BE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61255-F5EA-4B2E-96E1-6A7656680407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B30F7-98B9-4029-A02D-832C6DAF2090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66680" indent="-166680">
              <a:lnSpc>
                <a:spcPct val="15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Con la postulación al programa se inicia la FASE 0 que termina con la adquisición de los insumos necesarios para la ejecución del proy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5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FASE 1 es la de planificación del alcance detallado del proyecto y el ajuste de cro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5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FASE 2 es la ejecución del proyecto en si m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5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FASE 3 es la puesta en funcionamiento dentro del orga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5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FASE 4 es la etapa de ajustes, mejoras y estabilización de las herramientas o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8767F-1607-4757-ACA4-594698E2C845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FACC7-2F3B-47BC-8F39-8AA5817D3D09}" type="slidenum">
              <a:rPr b="0" lang="es-UY" sz="1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140360" y="9120240"/>
            <a:ext cx="317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1DD17-8989-437D-9FB3-A67667BD9E30}" type="slidenum">
              <a:rPr b="0" lang="es-UY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ORGAN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Alto compromiso a todos los niveles jerárquicos, del equipo de trabajo y los usuarios claves para ejecutar el proyecto con éx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Fuerte dedicación  de recursos humanos de la organ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Tomar decisiones sobre como va a ser la nueva forma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G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La capacidad de adaptarse a las necesidades del M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La  capacidad de evolución del producto en el mediano y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La facilidad de uso para que la organización pueda adopt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Ayudar a la organización a definir claramente los procesos y el 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Gestionar el cambio en la organización de la nueva forma de trabajo, y del impacto del nuevo sis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Actuar como agente movilizador del cambio, facilitando la toma de decisiones para la concreción de los objetivos plant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Participación de cada uno de nosotros para construir una solución real y a medida de las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Compromiso para cambiar las cosas de como se hacían a como queremos hacer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Comunicación honesta para que todos estemos al tanto de como se avanza y hacia donde v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2492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1720" y="330444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7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18840" y="133668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6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7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18840" y="3304440"/>
            <a:ext cx="264816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336680"/>
            <a:ext cx="401364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304440"/>
            <a:ext cx="822492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680" y="5032440"/>
            <a:ext cx="918216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154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7240" y="461880"/>
            <a:ext cx="685332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680" y="5032440"/>
            <a:ext cx="918216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154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gradFill rotWithShape="0">
            <a:gsLst>
              <a:gs pos="0">
                <a:srgbClr val="00547e"/>
              </a:gs>
              <a:gs pos="100000">
                <a:srgbClr val="008e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4680" y="5032440"/>
            <a:ext cx="918216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154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154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4680" y="5032440"/>
            <a:ext cx="918216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4680" y="5032440"/>
            <a:ext cx="918216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440" y="419040"/>
            <a:ext cx="8210520" cy="1800"/>
          </a:xfrm>
          <a:prstGeom prst="line">
            <a:avLst/>
          </a:prstGeom>
          <a:ln w="6480">
            <a:solidFill>
              <a:srgbClr val="154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49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6840" y="1336680"/>
            <a:ext cx="82249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65160"/>
            <a:ext cx="9144000" cy="5715000"/>
          </a:xfrm>
          <a:prstGeom prst="rect">
            <a:avLst/>
          </a:prstGeom>
          <a:gradFill rotWithShape="0">
            <a:gsLst>
              <a:gs pos="0">
                <a:srgbClr val="072e58"/>
              </a:gs>
              <a:gs pos="100000">
                <a:srgbClr val="0c4e95"/>
              </a:gs>
            </a:gsLst>
            <a:lin ang="13500000"/>
          </a:gradFill>
          <a:ln w="12600">
            <a:solidFill>
              <a:srgbClr val="325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38160" y="5084640"/>
            <a:ext cx="9182160" cy="6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440" y="546120"/>
            <a:ext cx="6858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"/>
              </a:rPr>
              <a:t>Proyecto GRP/Compra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87440" y="396720"/>
            <a:ext cx="8210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7440" y="1473120"/>
            <a:ext cx="8210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521160" y="2276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17600" y="738360"/>
            <a:ext cx="8031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</a:rPr>
              <a:t>Construcción de la Visión del Cambio del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</a:rPr>
              <a:t>Proyecto GR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87880" y="1960560"/>
            <a:ext cx="2288880" cy="228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87440" y="539640"/>
            <a:ext cx="678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 Light"/>
              </a:rPr>
              <a:t>Misión de AS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7600" y="1406520"/>
            <a:ext cx="788652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6680" indent="-166680" algn="just">
              <a:lnSpc>
                <a:spcPct val="150000"/>
              </a:lnSpc>
              <a:buClr>
                <a:srgbClr val="333333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omos el principal prestador estatal de atención integral a la salud, con una red de servicios en todo el territorio nacional, que contribuye a mejorar la calidad de vida de sus beneficiarios y lidera el cambio del modelo asistencial de acuerdo a los postulados del Sistema Nacional Integrado de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87440" y="539640"/>
            <a:ext cx="678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 Light"/>
              </a:rPr>
              <a:t>Visión institucion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7600" y="1406520"/>
            <a:ext cx="788652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6680" indent="-166680">
              <a:lnSpc>
                <a:spcPct val="200000"/>
              </a:lnSpc>
              <a:buClr>
                <a:srgbClr val="333333"/>
              </a:buClr>
              <a:buSzPct val="45000"/>
              <a:buFont typeface="Arial"/>
              <a:buChar char="•"/>
              <a:tabLst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r la organización referente en atención a la salud en nivel nacional que promueve una atención humanizada, de acceso equitativo y que brinde un servicio de excel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17600" y="1521000"/>
            <a:ext cx="38862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</a:rPr>
              <a:t>En el marco de la presentación y lanzamiento del Proyecto GRP en ASSE, se planificó e implementó un taller de trabajo con el propósito de elaborar una propuesta de declaración de visión d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Este taller se desarrolló el 19 de abril, y contó con la participación de aproximadamente 70 funcionarios que en su mayoría asumen responsabilidades de gestión en diversas Unidades Ejecutoras d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0240" y="252360"/>
            <a:ext cx="6788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 Light"/>
              </a:rPr>
              <a:t>Visión del Proyect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4350" t="0" r="4350" b="0"/>
          <a:stretch/>
        </p:blipFill>
        <p:spPr>
          <a:xfrm>
            <a:off x="4954680" y="1521000"/>
            <a:ext cx="3235320" cy="3373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17600" y="1314360"/>
            <a:ext cx="7886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7600" y="112680"/>
            <a:ext cx="6788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82480" y="603360"/>
            <a:ext cx="2576520" cy="1765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099040" y="568440"/>
            <a:ext cx="2892600" cy="1741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417600" y="2668680"/>
            <a:ext cx="2468520" cy="1849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3440160" y="2473200"/>
            <a:ext cx="2035080" cy="2509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5851440" y="2746440"/>
            <a:ext cx="252252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87440" y="1549440"/>
            <a:ext cx="78865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</a:rPr>
              <a:t>La implementación del GRP permitirá a AS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</a:rPr>
              <a:t>Ser una organización eficiente, con un fuerte compromiso por la calidad de sus servicios, la transparencia de su gestión y la mejora constante en sus procesos administr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</a:rPr>
              <a:t>Contar con información confiable y oportuna en el cual basa su proceso de toma de decisiones, asegurando la utilización de protocolos y la estandarización de su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"/>
              </a:rPr>
              <a:t>Alentar una cultura de trabajo con un fuerte compromiso hacia la calidad del servicio, a través de una gestión organizacional más integrada y promoviendo una comunicación más efectiva entre sus Unidades Ejecutoras, al interior de las mismas y en todos su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440" y="539640"/>
            <a:ext cx="678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 Light"/>
              </a:rPr>
              <a:t>Vis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gradFill rotWithShape="0">
            <a:gsLst>
              <a:gs pos="0">
                <a:srgbClr val="072e58"/>
              </a:gs>
              <a:gs pos="100000">
                <a:srgbClr val="0c4e95"/>
              </a:gs>
            </a:gsLst>
            <a:lin ang="13500000"/>
          </a:gradFill>
          <a:ln w="12600">
            <a:solidFill>
              <a:srgbClr val="325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8160" y="5084640"/>
            <a:ext cx="9182160" cy="6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7440" y="546120"/>
            <a:ext cx="6858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3300" spc="-1" strike="noStrike">
                <a:solidFill>
                  <a:srgbClr val="000000"/>
                </a:solidFill>
                <a:latin typeface="Calibri"/>
              </a:rPr>
              <a:t>Proyecto GRP/Compra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2520" y="1951200"/>
            <a:ext cx="820080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Calibri Light"/>
              </a:rPr>
              <a:t>Objetivo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 Light"/>
              </a:rPr>
              <a:t>Sistematizar y simplificar todo el proceso de adquisiciones y la gestión de contratos, asegurando el cumplimiento de los controles internos necesarios para garantizar la confiabilidad de la información y la transparencia en la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7440" y="396720"/>
            <a:ext cx="8210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440" y="1473120"/>
            <a:ext cx="8210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6360" y="5153040"/>
            <a:ext cx="428472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5920" y="2500200"/>
            <a:ext cx="1709640" cy="174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3160" y="2719440"/>
            <a:ext cx="1760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-Sistematizar el proceso de compras, contratos y su automatización.  Estandarización de los proces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819680" y="2403360"/>
            <a:ext cx="2557440" cy="2175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396040" y="2820960"/>
            <a:ext cx="20160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- Seguimiento y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 </a:t>
            </a: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del proceso integral 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adquisi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461880"/>
            <a:ext cx="85374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</a:rPr>
              <a:t>¿Cuáles son los objetivos del Proyecto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7920" y="1731960"/>
            <a:ext cx="8678880" cy="766800"/>
          </a:xfrm>
          <a:custGeom>
            <a:avLst/>
            <a:gdLst/>
            <a:ahLst/>
            <a:rect l="l" t="t" r="r" b="b"/>
            <a:pathLst>
              <a:path w="24110" h="2133">
                <a:moveTo>
                  <a:pt x="0" y="533"/>
                </a:moveTo>
                <a:lnTo>
                  <a:pt x="18081" y="533"/>
                </a:lnTo>
                <a:lnTo>
                  <a:pt x="18081" y="0"/>
                </a:lnTo>
                <a:lnTo>
                  <a:pt x="24109" y="1066"/>
                </a:lnTo>
                <a:lnTo>
                  <a:pt x="18081" y="2132"/>
                </a:lnTo>
                <a:lnTo>
                  <a:pt x="18081" y="1599"/>
                </a:lnTo>
                <a:lnTo>
                  <a:pt x="0" y="1599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aeaeae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3560000">
            <a:off x="918720" y="1861560"/>
            <a:ext cx="522360" cy="550800"/>
          </a:xfrm>
          <a:prstGeom prst="rect">
            <a:avLst/>
          </a:prstGeom>
          <a:gradFill rotWithShape="0">
            <a:gsLst>
              <a:gs pos="0">
                <a:srgbClr val="ffc54b"/>
              </a:gs>
              <a:gs pos="100000">
                <a:srgbClr val="e2aa00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3560000">
            <a:off x="2468520" y="1836720"/>
            <a:ext cx="573120" cy="579600"/>
          </a:xfrm>
          <a:prstGeom prst="rect">
            <a:avLst/>
          </a:prstGeom>
          <a:gradFill rotWithShape="0">
            <a:gsLst>
              <a:gs pos="0">
                <a:srgbClr val="ffc54b"/>
              </a:gs>
              <a:gs pos="100000">
                <a:srgbClr val="e2aa00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3560000">
            <a:off x="4191480" y="1838520"/>
            <a:ext cx="554040" cy="558720"/>
          </a:xfrm>
          <a:prstGeom prst="rect">
            <a:avLst/>
          </a:prstGeom>
          <a:gradFill rotWithShape="0">
            <a:gsLst>
              <a:gs pos="0">
                <a:srgbClr val="ffc54b"/>
              </a:gs>
              <a:gs pos="100000">
                <a:srgbClr val="e2aa00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3560000">
            <a:off x="7322760" y="1848600"/>
            <a:ext cx="584280" cy="615960"/>
          </a:xfrm>
          <a:prstGeom prst="rect">
            <a:avLst/>
          </a:prstGeom>
          <a:gradFill rotWithShape="0">
            <a:gsLst>
              <a:gs pos="0">
                <a:srgbClr val="ffc54b"/>
              </a:gs>
              <a:gs pos="100000">
                <a:srgbClr val="e2aa00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3560000">
            <a:off x="5685840" y="1877400"/>
            <a:ext cx="551160" cy="579240"/>
          </a:xfrm>
          <a:prstGeom prst="rect">
            <a:avLst/>
          </a:prstGeom>
          <a:gradFill rotWithShape="0">
            <a:gsLst>
              <a:gs pos="0">
                <a:srgbClr val="ffc54b"/>
              </a:gs>
              <a:gs pos="100000">
                <a:srgbClr val="e2aa00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955880" y="2532240"/>
            <a:ext cx="1814400" cy="16858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103480" y="2840040"/>
            <a:ext cx="1347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-Optimizar y simplificar la gest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3573360" y="2652840"/>
            <a:ext cx="1679760" cy="1697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668760" y="2757600"/>
            <a:ext cx="1378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-Obtención de información gerencial confiable y oportuna para la toma de decis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021440" y="2581200"/>
            <a:ext cx="1720800" cy="1838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21440" y="2870280"/>
            <a:ext cx="1720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13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Trazabilidad de la informa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100" spc="-1" strike="noStrike">
                <a:solidFill>
                  <a:srgbClr val="000000"/>
                </a:solidFill>
                <a:latin typeface="Calibri Light"/>
                <a:ea typeface="DejaVu Sans"/>
              </a:rPr>
              <a:t>Interacción con otros sistemas informáticos y herramientas de B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26960" y="0"/>
            <a:ext cx="85392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Alcance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mplantación de un Sistema de Gestión Integral de Compras para Administración Servicios de Salud del Es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681960" y="4700520"/>
            <a:ext cx="248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516880" y="4816440"/>
            <a:ext cx="1104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C05300A-26C1-47E0-BB41-2F159707F3AF}" type="slidenum">
              <a:rPr b="0" lang="es-UY" sz="16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4816440"/>
            <a:ext cx="1104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600" spc="-1" strike="noStrike">
                <a:solidFill>
                  <a:srgbClr val="ffffff"/>
                </a:solidFill>
                <a:latin typeface="Arial"/>
                <a:ea typeface="Microsoft YaHe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6040" y="585720"/>
            <a:ext cx="26751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</a:t>
            </a: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ntegración S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ntegración 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Vinculación con SIIF s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ntegración Webf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nfo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Integración 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348000" y="1003320"/>
            <a:ext cx="4226040" cy="23335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427800" y="3147840"/>
            <a:ext cx="343044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2000" spc="-1" strike="noStrike">
                <a:solidFill>
                  <a:srgbClr val="709ebe"/>
                </a:solidFill>
                <a:latin typeface="Segoe UI Light"/>
                <a:ea typeface="DejaVu San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Módu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lc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Adquis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Almac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Gestión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Activo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Calibri Light"/>
                <a:ea typeface="DejaVu Sans"/>
              </a:rPr>
              <a:t>Cuentas a 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251840" y="3575160"/>
            <a:ext cx="904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17600" y="461880"/>
            <a:ext cx="85374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</a:rPr>
              <a:t>Equipos de trabaj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35514" t="9485" r="0" b="7547"/>
          <a:stretch/>
        </p:blipFill>
        <p:spPr>
          <a:xfrm>
            <a:off x="542880" y="1473120"/>
            <a:ext cx="3019320" cy="2911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114800" y="1282680"/>
            <a:ext cx="46292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e designaron dos niveles de actuación: un primer nivel con personal de ASSE MEF y Quanam que participa en todas las etapas del proceso, y un segundo nivel que integra personal de ASSE de unidades ejecutoras de todo el país, involucrados desde el relevamiento en adela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704880"/>
            <a:ext cx="428616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e identifica en este proyecto un fuerte componente de cambio organizacional. Del relevamiento de los procedimientos surge el rediseño y la adecuación de los mismos. Esto implicará cambios en la forma de cómo se realizan las cosas e impacta en todos los actores vinculados al proceso de compra. La forma de abordar el cambio organizacional y disminuir las resistencias es determinante en el éxito d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923000" y="1209600"/>
            <a:ext cx="37447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2724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85880" y="1268280"/>
            <a:ext cx="34164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1464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7184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30480" y="1268280"/>
            <a:ext cx="34164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8948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1644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7544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2616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8480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1356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7220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1680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75440" y="1268280"/>
            <a:ext cx="34164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02760" y="1268280"/>
            <a:ext cx="341280" cy="41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9560" y="1008000"/>
            <a:ext cx="8318520" cy="260280"/>
          </a:xfrm>
          <a:prstGeom prst="rect">
            <a:avLst/>
          </a:prstGeom>
          <a:solidFill>
            <a:srgbClr val="a6a6a6"/>
          </a:soli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Calibri Light"/>
                <a:ea typeface="DejaVu Sans"/>
              </a:rPr>
              <a:t>2018/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-1717200" y="3285720"/>
            <a:ext cx="3917880" cy="2602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Calibri Light"/>
                <a:ea typeface="DejaVu Sans"/>
              </a:rPr>
              <a:t>PROY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3800" y="1563840"/>
            <a:ext cx="1479600" cy="544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Calibri Light"/>
                <a:ea typeface="DejaVu Sans"/>
              </a:rPr>
              <a:t>Ini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163600"/>
            <a:ext cx="1466640" cy="71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Calibri Light"/>
                <a:ea typeface="DejaVu Sans"/>
              </a:rPr>
              <a:t>Plan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2935440"/>
            <a:ext cx="1466640" cy="1881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Calibri Light"/>
                <a:ea typeface="DejaVu Sans"/>
              </a:rPr>
              <a:t>Ejecu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4875120"/>
            <a:ext cx="146664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Calibri Light"/>
                <a:ea typeface="DejaVu Sans"/>
              </a:rPr>
              <a:t>Cier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68560" y="2146320"/>
            <a:ext cx="1287360" cy="289080"/>
          </a:xfrm>
          <a:custGeom>
            <a:avLst/>
            <a:gdLst/>
            <a:ahLst/>
            <a:rect l="l" t="t" r="r" b="b"/>
            <a:pathLst>
              <a:path w="3579" h="807">
                <a:moveTo>
                  <a:pt x="0" y="0"/>
                </a:moveTo>
                <a:lnTo>
                  <a:pt x="2683" y="0"/>
                </a:lnTo>
                <a:lnTo>
                  <a:pt x="3578" y="403"/>
                </a:lnTo>
                <a:lnTo>
                  <a:pt x="2683" y="806"/>
                </a:lnTo>
                <a:lnTo>
                  <a:pt x="0" y="806"/>
                </a:lnTo>
                <a:lnTo>
                  <a:pt x="0" y="0"/>
                </a:ln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60680" y="2544840"/>
            <a:ext cx="2165400" cy="288720"/>
          </a:xfrm>
          <a:custGeom>
            <a:avLst/>
            <a:gdLst/>
            <a:ahLst/>
            <a:rect l="l" t="t" r="r" b="b"/>
            <a:pathLst>
              <a:path w="6016" h="807">
                <a:moveTo>
                  <a:pt x="0" y="0"/>
                </a:moveTo>
                <a:lnTo>
                  <a:pt x="4511" y="0"/>
                </a:lnTo>
                <a:lnTo>
                  <a:pt x="6015" y="403"/>
                </a:lnTo>
                <a:lnTo>
                  <a:pt x="4511" y="806"/>
                </a:lnTo>
                <a:lnTo>
                  <a:pt x="0" y="806"/>
                </a:lnTo>
                <a:lnTo>
                  <a:pt x="0" y="0"/>
                </a:ln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Análisis / Releva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00640" y="3424320"/>
            <a:ext cx="2382840" cy="326880"/>
          </a:xfrm>
          <a:custGeom>
            <a:avLst/>
            <a:gdLst/>
            <a:ahLst/>
            <a:rect l="l" t="t" r="r" b="b"/>
            <a:pathLst>
              <a:path w="6623" h="911">
                <a:moveTo>
                  <a:pt x="0" y="0"/>
                </a:moveTo>
                <a:lnTo>
                  <a:pt x="4966" y="0"/>
                </a:lnTo>
                <a:lnTo>
                  <a:pt x="6622" y="455"/>
                </a:lnTo>
                <a:lnTo>
                  <a:pt x="4966" y="910"/>
                </a:lnTo>
                <a:lnTo>
                  <a:pt x="0" y="910"/>
                </a:lnTo>
                <a:lnTo>
                  <a:pt x="0" y="0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Parametrización y desarrol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26160" y="3876840"/>
            <a:ext cx="1687320" cy="288720"/>
          </a:xfrm>
          <a:custGeom>
            <a:avLst/>
            <a:gdLst/>
            <a:ahLst/>
            <a:rect l="l" t="t" r="r" b="b"/>
            <a:pathLst>
              <a:path w="4689" h="807">
                <a:moveTo>
                  <a:pt x="0" y="0"/>
                </a:moveTo>
                <a:lnTo>
                  <a:pt x="3516" y="0"/>
                </a:lnTo>
                <a:lnTo>
                  <a:pt x="4688" y="403"/>
                </a:lnTo>
                <a:lnTo>
                  <a:pt x="3516" y="806"/>
                </a:lnTo>
                <a:lnTo>
                  <a:pt x="0" y="806"/>
                </a:lnTo>
                <a:lnTo>
                  <a:pt x="0" y="0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Prueb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27960" y="4981680"/>
            <a:ext cx="1110960" cy="276120"/>
          </a:xfrm>
          <a:custGeom>
            <a:avLst/>
            <a:gdLst/>
            <a:ahLst/>
            <a:rect l="l" t="t" r="r" b="b"/>
            <a:pathLst>
              <a:path w="3091" h="769">
                <a:moveTo>
                  <a:pt x="0" y="0"/>
                </a:moveTo>
                <a:lnTo>
                  <a:pt x="2317" y="0"/>
                </a:lnTo>
                <a:lnTo>
                  <a:pt x="3090" y="384"/>
                </a:lnTo>
                <a:lnTo>
                  <a:pt x="2317" y="768"/>
                </a:lnTo>
                <a:lnTo>
                  <a:pt x="0" y="768"/>
                </a:lnTo>
                <a:lnTo>
                  <a:pt x="0" y="0"/>
                </a:lnTo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Capaci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80400" y="4238640"/>
            <a:ext cx="879480" cy="277920"/>
          </a:xfrm>
          <a:custGeom>
            <a:avLst/>
            <a:gdLst/>
            <a:ahLst/>
            <a:rect l="l" t="t" r="r" b="b"/>
            <a:pathLst>
              <a:path w="2444" h="773">
                <a:moveTo>
                  <a:pt x="0" y="0"/>
                </a:moveTo>
                <a:lnTo>
                  <a:pt x="1832" y="0"/>
                </a:lnTo>
                <a:lnTo>
                  <a:pt x="2443" y="386"/>
                </a:lnTo>
                <a:lnTo>
                  <a:pt x="1832" y="772"/>
                </a:lnTo>
                <a:lnTo>
                  <a:pt x="0" y="772"/>
                </a:lnTo>
                <a:lnTo>
                  <a:pt x="0" y="0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Simulac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47760" y="1666800"/>
            <a:ext cx="6634440" cy="298440"/>
          </a:xfrm>
          <a:custGeom>
            <a:avLst/>
            <a:gdLst/>
            <a:ahLst/>
            <a:rect l="l" t="t" r="r" b="b"/>
            <a:pathLst>
              <a:path w="18432" h="834">
                <a:moveTo>
                  <a:pt x="0" y="0"/>
                </a:moveTo>
                <a:lnTo>
                  <a:pt x="13823" y="0"/>
                </a:lnTo>
                <a:lnTo>
                  <a:pt x="18431" y="416"/>
                </a:lnTo>
                <a:lnTo>
                  <a:pt x="13823" y="833"/>
                </a:lnTo>
                <a:lnTo>
                  <a:pt x="0" y="833"/>
                </a:lnTo>
                <a:lnTo>
                  <a:pt x="0" y="0"/>
                </a:lnTo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Gestión de Cambio Organizac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697880" y="3895560"/>
            <a:ext cx="490320" cy="1100160"/>
          </a:xfrm>
          <a:custGeom>
            <a:avLst/>
            <a:gdLst/>
            <a:ahLst/>
            <a:rect l="l" t="t" r="r" b="b"/>
            <a:pathLst>
              <a:path w="1365" h="3059">
                <a:moveTo>
                  <a:pt x="341" y="0"/>
                </a:moveTo>
                <a:lnTo>
                  <a:pt x="341" y="2293"/>
                </a:lnTo>
                <a:lnTo>
                  <a:pt x="0" y="2293"/>
                </a:lnTo>
                <a:lnTo>
                  <a:pt x="682" y="3058"/>
                </a:lnTo>
                <a:lnTo>
                  <a:pt x="1364" y="2293"/>
                </a:lnTo>
                <a:lnTo>
                  <a:pt x="1023" y="2293"/>
                </a:lnTo>
                <a:lnTo>
                  <a:pt x="1023" y="0"/>
                </a:lnTo>
                <a:lnTo>
                  <a:pt x="341" y="0"/>
                </a:lnTo>
              </a:path>
            </a:pathLst>
          </a:custGeom>
          <a:solidFill>
            <a:srgbClr val="2f5597"/>
          </a:solidFill>
          <a:ln w="12600">
            <a:solidFill>
              <a:srgbClr val="75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ffffff"/>
                </a:solidFill>
                <a:latin typeface="Calibri"/>
                <a:ea typeface="DejaVu Sans"/>
              </a:rPr>
              <a:t>Produc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86760" y="3606840"/>
            <a:ext cx="1239840" cy="288720"/>
          </a:xfrm>
          <a:custGeom>
            <a:avLst/>
            <a:gdLst/>
            <a:ahLst/>
            <a:rect l="l" t="t" r="r" b="b"/>
            <a:pathLst>
              <a:path w="3448" h="807">
                <a:moveTo>
                  <a:pt x="134" y="0"/>
                </a:moveTo>
                <a:cubicBezTo>
                  <a:pt x="67" y="0"/>
                  <a:pt x="0" y="67"/>
                  <a:pt x="0" y="134"/>
                </a:cubicBezTo>
                <a:lnTo>
                  <a:pt x="0" y="671"/>
                </a:lnTo>
                <a:cubicBezTo>
                  <a:pt x="0" y="738"/>
                  <a:pt x="67" y="806"/>
                  <a:pt x="134" y="806"/>
                </a:cubicBezTo>
                <a:lnTo>
                  <a:pt x="3312" y="806"/>
                </a:lnTo>
                <a:cubicBezTo>
                  <a:pt x="3379" y="806"/>
                  <a:pt x="3447" y="738"/>
                  <a:pt x="3447" y="671"/>
                </a:cubicBezTo>
                <a:lnTo>
                  <a:pt x="3447" y="134"/>
                </a:lnTo>
                <a:cubicBezTo>
                  <a:pt x="3447" y="67"/>
                  <a:pt x="3379" y="0"/>
                  <a:pt x="3312" y="0"/>
                </a:cubicBezTo>
                <a:lnTo>
                  <a:pt x="134" y="0"/>
                </a:lnTo>
              </a:path>
            </a:pathLst>
          </a:custGeom>
          <a:solidFill>
            <a:srgbClr val="dae3f3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ffffff"/>
                </a:solidFill>
                <a:latin typeface="Calibri Light"/>
                <a:ea typeface="DejaVu Sans"/>
              </a:rPr>
              <a:t>Mayo 20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43000" y="1100160"/>
            <a:ext cx="430200" cy="1071720"/>
          </a:xfrm>
          <a:custGeom>
            <a:avLst/>
            <a:gdLst/>
            <a:ahLst/>
            <a:rect l="l" t="t" r="r" b="b"/>
            <a:pathLst>
              <a:path w="1199" h="2979">
                <a:moveTo>
                  <a:pt x="299" y="0"/>
                </a:moveTo>
                <a:lnTo>
                  <a:pt x="299" y="2233"/>
                </a:lnTo>
                <a:lnTo>
                  <a:pt x="0" y="2233"/>
                </a:lnTo>
                <a:lnTo>
                  <a:pt x="599" y="2978"/>
                </a:lnTo>
                <a:lnTo>
                  <a:pt x="1198" y="2233"/>
                </a:lnTo>
                <a:lnTo>
                  <a:pt x="898" y="2233"/>
                </a:lnTo>
                <a:lnTo>
                  <a:pt x="898" y="0"/>
                </a:lnTo>
                <a:lnTo>
                  <a:pt x="299" y="0"/>
                </a:lnTo>
              </a:path>
            </a:pathLst>
          </a:custGeom>
          <a:solidFill>
            <a:srgbClr val="2f5597"/>
          </a:solidFill>
          <a:ln w="12600">
            <a:solidFill>
              <a:srgbClr val="75d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ffffff"/>
                </a:solidFill>
                <a:latin typeface="Calibri"/>
                <a:ea typeface="DejaVu Sans"/>
              </a:rPr>
              <a:t>Kick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39800" y="741240"/>
            <a:ext cx="1239840" cy="346320"/>
          </a:xfrm>
          <a:custGeom>
            <a:avLst/>
            <a:gdLst/>
            <a:ahLst/>
            <a:rect l="l" t="t" r="r" b="b"/>
            <a:pathLst>
              <a:path w="3448" h="966">
                <a:moveTo>
                  <a:pt x="160" y="0"/>
                </a:moveTo>
                <a:cubicBezTo>
                  <a:pt x="80" y="0"/>
                  <a:pt x="0" y="80"/>
                  <a:pt x="0" y="160"/>
                </a:cubicBezTo>
                <a:lnTo>
                  <a:pt x="0" y="804"/>
                </a:lnTo>
                <a:cubicBezTo>
                  <a:pt x="0" y="884"/>
                  <a:pt x="80" y="965"/>
                  <a:pt x="160" y="965"/>
                </a:cubicBezTo>
                <a:lnTo>
                  <a:pt x="3286" y="965"/>
                </a:lnTo>
                <a:cubicBezTo>
                  <a:pt x="3366" y="965"/>
                  <a:pt x="3447" y="884"/>
                  <a:pt x="3447" y="804"/>
                </a:cubicBezTo>
                <a:lnTo>
                  <a:pt x="3447" y="160"/>
                </a:lnTo>
                <a:cubicBezTo>
                  <a:pt x="3447" y="80"/>
                  <a:pt x="3366" y="0"/>
                  <a:pt x="3286" y="0"/>
                </a:cubicBezTo>
                <a:lnTo>
                  <a:pt x="160" y="0"/>
                </a:lnTo>
              </a:path>
            </a:pathLst>
          </a:custGeom>
          <a:solidFill>
            <a:srgbClr val="dae3f3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ffffff"/>
                </a:solidFill>
                <a:latin typeface="Calibri Light"/>
                <a:ea typeface="DejaVu Sans"/>
              </a:rPr>
              <a:t>19/04/20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3040" y="52560"/>
            <a:ext cx="8031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  <a:ea typeface="DejaVu Sans"/>
              </a:rPr>
              <a:t>En qué estamo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35520" y="2959200"/>
            <a:ext cx="1395360" cy="379440"/>
          </a:xfrm>
          <a:custGeom>
            <a:avLst/>
            <a:gdLst/>
            <a:ahLst/>
            <a:rect l="l" t="t" r="r" b="b"/>
            <a:pathLst>
              <a:path w="3880" h="1059">
                <a:moveTo>
                  <a:pt x="0" y="0"/>
                </a:moveTo>
                <a:lnTo>
                  <a:pt x="2909" y="0"/>
                </a:lnTo>
                <a:lnTo>
                  <a:pt x="3879" y="529"/>
                </a:lnTo>
                <a:lnTo>
                  <a:pt x="2909" y="1058"/>
                </a:lnTo>
                <a:lnTo>
                  <a:pt x="0" y="1058"/>
                </a:lnTo>
                <a:lnTo>
                  <a:pt x="0" y="0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Modelado d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12880" y="4370400"/>
            <a:ext cx="2117880" cy="289080"/>
          </a:xfrm>
          <a:custGeom>
            <a:avLst/>
            <a:gdLst/>
            <a:ahLst/>
            <a:rect l="l" t="t" r="r" b="b"/>
            <a:pathLst>
              <a:path w="5886" h="807">
                <a:moveTo>
                  <a:pt x="0" y="0"/>
                </a:moveTo>
                <a:lnTo>
                  <a:pt x="4413" y="0"/>
                </a:lnTo>
                <a:lnTo>
                  <a:pt x="5885" y="403"/>
                </a:lnTo>
                <a:lnTo>
                  <a:pt x="4413" y="806"/>
                </a:lnTo>
                <a:lnTo>
                  <a:pt x="0" y="806"/>
                </a:lnTo>
                <a:lnTo>
                  <a:pt x="0" y="0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Prototip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16440" y="4995720"/>
            <a:ext cx="1193760" cy="289080"/>
          </a:xfrm>
          <a:custGeom>
            <a:avLst/>
            <a:gdLst/>
            <a:ahLst/>
            <a:rect l="l" t="t" r="r" b="b"/>
            <a:pathLst>
              <a:path w="3321" h="807">
                <a:moveTo>
                  <a:pt x="0" y="0"/>
                </a:moveTo>
                <a:lnTo>
                  <a:pt x="2490" y="0"/>
                </a:lnTo>
                <a:lnTo>
                  <a:pt x="3320" y="403"/>
                </a:lnTo>
                <a:lnTo>
                  <a:pt x="2490" y="806"/>
                </a:lnTo>
                <a:lnTo>
                  <a:pt x="0" y="806"/>
                </a:lnTo>
                <a:lnTo>
                  <a:pt x="0" y="0"/>
                </a:lnTo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Calibri Light"/>
                <a:ea typeface="DejaVu Sans"/>
              </a:rPr>
              <a:t>Capaci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511960" y="2249640"/>
            <a:ext cx="1689120" cy="1689120"/>
          </a:xfrm>
          <a:custGeom>
            <a:avLst/>
            <a:gdLst/>
            <a:ahLst/>
            <a:rect l="l" t="t" r="r" b="b"/>
            <a:pathLst>
              <a:path w="1689948" h="1689948">
                <a:moveTo>
                  <a:pt x="0" y="0"/>
                </a:moveTo>
                <a:lnTo>
                  <a:pt x="1689948" y="0"/>
                </a:lnTo>
                <a:lnTo>
                  <a:pt x="1689948" y="1689948"/>
                </a:lnTo>
                <a:lnTo>
                  <a:pt x="0" y="16899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91040" y="4710240"/>
            <a:ext cx="1689120" cy="1689120"/>
          </a:xfrm>
          <a:custGeom>
            <a:avLst/>
            <a:gdLst/>
            <a:ahLst/>
            <a:rect l="l" t="t" r="r" b="b"/>
            <a:pathLst>
              <a:path w="1689948" h="1689948">
                <a:moveTo>
                  <a:pt x="0" y="0"/>
                </a:moveTo>
                <a:lnTo>
                  <a:pt x="1689948" y="0"/>
                </a:lnTo>
                <a:lnTo>
                  <a:pt x="1689948" y="1689948"/>
                </a:lnTo>
                <a:lnTo>
                  <a:pt x="0" y="16899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71920" y="2249640"/>
            <a:ext cx="1689120" cy="1689120"/>
          </a:xfrm>
          <a:custGeom>
            <a:avLst/>
            <a:gdLst/>
            <a:ahLst/>
            <a:rect l="l" t="t" r="r" b="b"/>
            <a:pathLst>
              <a:path w="1689948" h="1689948">
                <a:moveTo>
                  <a:pt x="0" y="0"/>
                </a:moveTo>
                <a:lnTo>
                  <a:pt x="1689948" y="0"/>
                </a:lnTo>
                <a:lnTo>
                  <a:pt x="1689948" y="1689948"/>
                </a:lnTo>
                <a:lnTo>
                  <a:pt x="0" y="16899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80360" y="6888240"/>
            <a:ext cx="248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6000" indent="-20952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0B0F6CD-A651-4D4D-8AA6-197533776C76}" type="slidenum">
              <a:rPr b="0" lang="es-UY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215280" y="7075440"/>
            <a:ext cx="1105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E768A18-D2DE-46A9-82C2-BD16645CF0FD}" type="slidenum">
              <a:rPr b="0" lang="es-UY" sz="16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6888240"/>
            <a:ext cx="248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6000" indent="-209520" algn="r">
              <a:lnSpc>
                <a:spcPct val="95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F85358F-6AD5-4B1B-994A-6D291DA1C967}" type="slidenum">
              <a:rPr b="0" lang="es-UY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215280" y="7075440"/>
            <a:ext cx="1105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600" spc="-1" strike="noStrike">
                <a:solidFill>
                  <a:srgbClr val="ffffff"/>
                </a:solidFill>
                <a:latin typeface="Arial"/>
                <a:ea typeface="Microsoft YaHei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6888" t="9320" r="10720" b="7935"/>
          <a:stretch/>
        </p:blipFill>
        <p:spPr>
          <a:xfrm>
            <a:off x="3911760" y="1282680"/>
            <a:ext cx="1385640" cy="1185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911760" y="2470320"/>
            <a:ext cx="167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3b3838"/>
                </a:solidFill>
                <a:latin typeface="Calibri Light"/>
                <a:ea typeface="Microsoft YaHei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859440" y="3201840"/>
            <a:ext cx="1140120" cy="1160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859440" y="4362480"/>
            <a:ext cx="1100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3b3838"/>
                </a:solidFill>
                <a:latin typeface="Calibri Light"/>
                <a:ea typeface="Microsoft YaHei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1515960" y="3086280"/>
            <a:ext cx="1251000" cy="987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711440" y="4398840"/>
            <a:ext cx="1171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3b3838"/>
                </a:solidFill>
                <a:latin typeface="Calibri Light"/>
                <a:ea typeface="Microsoft YaHei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3693960" y="3014640"/>
            <a:ext cx="1724040" cy="13827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056120" y="4282920"/>
            <a:ext cx="118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1800" spc="-1" strike="noStrike">
                <a:solidFill>
                  <a:srgbClr val="3b3838"/>
                </a:solidFill>
                <a:latin typeface="Calibri Light"/>
                <a:ea typeface="Microsoft YaHei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7600" y="463680"/>
            <a:ext cx="853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3300" spc="-1" strike="noStrike">
                <a:solidFill>
                  <a:srgbClr val="000000"/>
                </a:solidFill>
                <a:latin typeface="Calibri Light"/>
              </a:rPr>
              <a:t>Factores clave de una implementación exitos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