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F11F-CBB0-4005-AD97-7DB91CDA1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7817-9487-4EC5-A2B1-8163A363B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42C63-2C30-44F5-AF90-4A7DD75D2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ACCE-4ED2-4C64-8BED-C236362DD5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FFD2-A8C0-4D8D-A32A-CFC3EBB3F7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1181-95D7-4DA9-86C6-A2F0F42BD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7A07-4FEC-40DD-B5D7-572C7FF00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1B86-01E0-4433-9D57-D611E741E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D5F8-4432-4FC8-B47A-38EB506D5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8DA3-945D-4FE3-83F9-12E24221E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B157-C22F-4794-8314-C6CE3673A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B0D6-0538-4B48-9452-BD7070C54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30FEF1-620A-48AA-AB56-ED06E99AF52F}" type="slidenum">
              <a:rPr b="0" lang="es-E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 Vistazo a los procesos mentales de los gerentes. Don Hellriegel - John Sloc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ACTORES QUE INTERVIENEN EN LA CAPTACION DE LA 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SENSACIONES, buscan informaciones concretas, desagrado por problemas nuevos, gustan del uso de habilidades ya aprendidas´, se impacientan con complicaciones, desconfianza a las inspi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INTUICIONES,  gusta de problemas nuevos,  miran el problema global,  confían en sentimientos y mensajes no verbales, proceden a saltos, consideran y desechan alternativas rápidamen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83808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ACTORES DE EVALUACION DE LA 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SENTIMIENTOS, personalizan todas las situaciones, quieren complacer a la gente, repulsión a situaciones desagradables,  sensibilidad a los problemas de otros, interés por los aspectos humanos, dificultad para vincular ineficiencia con dificultades de relación hu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PENSAMIENTOS,  planeación y búsqueda de métodos de solución, preocupación por enfoque de abordaje, cuidadosa definición de restricciones, refinamiento progresivo de análisis, búsqueda de información adi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TERNATIVAS POS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1120" y="1979640"/>
          <a:ext cx="7916760" cy="40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979640"/>
                    <a:ext cx="791676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nsorial - afectivo,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n pragmáticos, saben observar con perspicacia,  no pelean con el sistema sino que usan el sistema, responde a las exigencias inmediata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 Defectos posibles: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acios a teorías novedad,  negativos a cambios,  adaptables en tanto no se violen reglas,  se resisten a compromisos del pas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nsorial - reflexiv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saben fijar normas, útiles en decisiones con información precisa, perseverantes en el trabajo y estiman duraciones de los trabajos con buen suceso, ponen las cosas en claro, trabajo mental, buscan impersonalidad.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fectos posib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se impacientan con las demoras,  propensos a dividir a la gente, causan tensiones, pierden energías en prevenir cri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914400"/>
            <a:ext cx="7772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uitivo - afectiv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carisma personal e identificación con dirigidos, son elocuentes, se sienten cómodos en no estructurados, pacientes en situaciones complicadas, esperan el momento oportuno para aplicar ideas, usan recompensas sicologías.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fectos posib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dejarse llevar por preferencias personales, necesitan periodos de descanso,  pierden tiempo buscando aprob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uitivo - reflexiv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 arquitectos del progreso y las ideas, perciben relaciones entre hechos, buscan estructura de poder y rechazan el quietismo y la supervivencia como objetivos.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fectos posib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es posible menosprecien subordinados si no los consideran intelectualmente, dificultades de relación personal por la exigencia, intolerantes con err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LIDAD DE LA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ERR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TIPO 1.-Tomar como verdadero algo que es f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TIPO 2.- Tomar como falso algo que es verdad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UNK - UNK desconocido, descono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KNOW -UNK conocido descono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2819520"/>
            <a:ext cx="2819160" cy="1600200"/>
          </a:xfrm>
          <a:prstGeom prst="rect">
            <a:avLst/>
          </a:prstGeom>
          <a:solidFill>
            <a:srgbClr val="00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for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3429000"/>
            <a:ext cx="3581280" cy="1447920"/>
          </a:xfrm>
          <a:prstGeom prst="rect">
            <a:avLst/>
          </a:prstGeom>
          <a:solidFill>
            <a:srgbClr val="00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formación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4114800"/>
            <a:ext cx="1828800" cy="1752480"/>
          </a:xfrm>
          <a:prstGeom prst="rect">
            <a:avLst/>
          </a:prstGeom>
          <a:solidFill>
            <a:srgbClr val="00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4114800"/>
            <a:ext cx="1440" cy="685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22480" y="4876920"/>
            <a:ext cx="84132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8476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4419720"/>
            <a:ext cx="175248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21:33:11Z</dcterms:created>
  <dc:creator>comas</dc:creator>
  <dc:description/>
  <dc:language>en-US</dc:language>
  <cp:lastModifiedBy>lg</cp:lastModifiedBy>
  <dcterms:modified xsi:type="dcterms:W3CDTF">2011-03-21T17:56:04Z</dcterms:modified>
  <cp:revision>12</cp:revision>
  <dc:subject/>
  <dc:title>Un Vistazo a los procesos mentales de los gerentes. Don Hellriegel - John Slocum</dc:title>
</cp:coreProperties>
</file>