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D8C-967F-405E-B07F-A1C25C58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783-66F9-4A44-940B-842600EA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9E1-2A80-4AFD-AEA8-6D3D66DD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4E0-5C66-4E9C-B89A-4EF8E8E8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62A-EC9A-48A6-AEE9-F4D18712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0E7-E716-491A-B571-EFBF5F86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075-1C3C-4D76-ADF5-977EE20C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70B-C64F-4F67-92AF-07B4F7AA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024-0CFD-4AB9-8AEA-B47958CE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AA9-0C77-4FA3-8A01-4CB54DE9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432-23D7-42B3-A48D-330A912A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622-393B-41B6-8CA8-977D72C4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UY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UY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UY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516E3B-4DBC-4386-BB66-D192BC0B7B68}" type="slidenum">
              <a:rPr b="0" lang="es-UY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LAVES DEL TALENT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an Co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áctica Intens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La memoria no es un registro. Es una estructura. A medida que nos esforzamos y nos centramos en un tema, mayor estructura vamos creando. El esfuerzo es un requisito para el aprendizaje no una opció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gni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Es el proceso que enciende y mantiene viva la motivación. Tiene elementos subjetivos: compromiso y percepción del yo y externos como la volaración extern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nuestra habilidad y 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estro instructo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Capaz de combinar práctica intensa con ignición. Requiere sensibilidad de conexión con el alum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9T18:16:21Z</dcterms:created>
  <dc:creator>Javier Comas Mérola</dc:creator>
  <dc:description/>
  <dc:language>en-US</dc:language>
  <cp:lastModifiedBy>Javier Comas Mérola</cp:lastModifiedBy>
  <cp:lastPrinted>2012-07-19T18:22:03Z</cp:lastPrinted>
  <dcterms:modified xsi:type="dcterms:W3CDTF">2012-07-19T18:22:34Z</dcterms:modified>
  <cp:revision>1</cp:revision>
  <dc:subject/>
  <dc:title>LAS CLAVES DEL TALENTO Dan Coyle</dc:title>
</cp:coreProperties>
</file>